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02040" y="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941076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9C18-FAB4-48F4-8867-D971122B0B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 model 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create a model Mb from Ma. This is a trans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Mb (target elements) are created from elements of Ma (source ele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 5, 6) Let us look at the metamodels. Ma conforms to MMa and Mb to MMb. Both MMa and MMb conform to the metameta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implicity, the meta relations between elements of Ma and Mb and their meta elements in MMa and MMb is represented by a col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The relations between source elements and target elements can be grouped and associated to transformation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Let us repreent These rules as a model elements of a MMa2MMb.atl transformat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The transformation model conforms to a transformation metamodel: AT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A773-ED44-4E96-9644-DE112BC5E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9114-7A13-431D-9534-A24C0FCDE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E0A5-50DE-4037-AC83-276EB564C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EB98-ED85-451C-8DDB-5C2322A9C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C10B-A2C6-4565-A5AE-D9FA3F65D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A177-2782-47F2-8800-B9CBF20FC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C9EB-014C-4E3C-8D59-B1F9369DE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EB6D-4F6A-41B6-893B-766594058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6F06-EB8B-4F54-84C9-7DEE175BC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35EE-280F-4D60-80D4-DECC6FF94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B234-AEBD-4C2A-9B8C-BEA6F965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803A-F7F6-47FB-920A-6B0FD7516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3070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Comic Sans MS"/>
              </a:rPr>
              <a:t>June 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Transforming models with 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492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9F67347F-FCE0-4268-8176-75F2F9072162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v-nantes.fr/index.j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Comic Sans MS"/>
              </a:rPr>
              <a:t>Transforming models with AT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The A</a:t>
            </a:r>
            <a:r>
              <a:rPr b="1" lang="en-US" sz="2400" spc="-1" strike="noStrike">
                <a:solidFill>
                  <a:srgbClr val="000042"/>
                </a:solidFill>
                <a:latin typeface="Comic Sans MS"/>
              </a:rPr>
              <a:t>TLAS</a:t>
            </a: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 Transformatio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iversité de Nan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9360" y="6191280"/>
            <a:ext cx="1228680" cy="6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4DFF-44A0-45EF-AE62-4623A287B7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urce models and target models are distinc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urc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models a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-onl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they can only be navigated, not modified)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models a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rite-onl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they cannot be navigated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language is a declarative-imperative hybrid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clarative part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atche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ules with automatic traceability support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de-effect free navigation (and query) language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CL 2.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mperative part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lle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ule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tion block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commended programming style: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eclarativ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6ED1-8BE0-4D23-A3DC-13FC28B1AF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 (continue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declarative rule specifi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source pattern to b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ched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n the source model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target pattern to be created in the target models for each match during rul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imperative rule is basically a procedur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is called by its name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may take argument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can contai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declarative target pattern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 action block (i.e. a sequence of statements)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oth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9FE9-296F-4F1B-975F-78622737239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 (continue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a declarative rule mea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reating the specified target element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itializing the properties of the newly created eleme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re are three types of declarative rul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ndard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nc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for each match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given set of elements may only be matched by one standard rul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z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 many time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for each match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t is referred to from other rules (possibly never for some matches)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nique laz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at most once for each match and only if it is referred to from other rul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60B2-943E-4804-B29B-7ED0602A21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clarative rules: source 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he source pattern is composed of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labeled set of types coming from the source metamodels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guard (Boolean expression) used to filter matches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 match corresponds to a set of elements coming from the source models that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re of the types specified in the source pattern (one element for each type)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atisfy the guard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115-5F27-4452-8689-DF7E02576F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clarative rules: target 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888840"/>
            <a:ext cx="84582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he target pattern is composed of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labeled set of types coming from the target metamodels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 each element of this set, a set of bindings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binding specifies the initialization of a property of a target element using an expression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For each match, the target pattern is applied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Elements are created in the target models (one for each type of the target pattern)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arget elements are initialized by executing the binding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irst evaluating their value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n assigning this value to the corresponding propert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CA6B-EC75-49DF-B478-3AD6A6E810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ecution order of declarative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clarative ATL frees the developer from specifying execution order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order in which rules are matched and applied is not specifi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mark: the match of a lazy or unique lazy rules must be referred to before the rule is appli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order in which bindings are applied is not specifi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execution of declarative rules can however be kept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execution of a rule cannot change source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t cannot change a match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elements are not navigab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execution of a binding cannot change the value of anothe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F513-6687-4246-8871-5332C657F8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urce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ule Class2Tab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ule 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ule MultiValuedAttribute2Colum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F62A-015A-4D63-A47C-8A24059994D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source metamodel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a simplification of class diagra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target metamodel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Relational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a simplification of the relational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declaration of the transformation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mod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Relational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create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out : Relational </a:t>
            </a: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in : Class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transformation excerpts used in this presentation come from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http://www.eclipse.org/gmt/atl/atlTransformations/#Class2Relationa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9835-0FA7-4935-8285-B963B028E56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74840" y="884160"/>
            <a:ext cx="798012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ource: the Clas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-400680" y="592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6040" y="614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98800" y="1060560"/>
            <a:ext cx="159372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98800" y="1060560"/>
            <a:ext cx="1593720" cy="95076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68880" y="11113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amed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3400" y="10429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16080" y="1382760"/>
            <a:ext cx="1560600" cy="14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6480" y="1469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620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0800" y="1469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9352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96400" y="1469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572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4640" y="1469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9680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98800" y="3154320"/>
            <a:ext cx="172224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8800" y="3154320"/>
            <a:ext cx="1722240" cy="9511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49520" y="320184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25320" y="31338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16080" y="3476520"/>
            <a:ext cx="168912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767120"/>
            <a:ext cx="183528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4767120"/>
            <a:ext cx="183528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74640" y="4818240"/>
            <a:ext cx="7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8924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59480" y="5087880"/>
            <a:ext cx="180360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09880" y="51753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0960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06000" y="51753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val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7828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8160" y="517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748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4600" y="51753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7560" y="2011320"/>
            <a:ext cx="4827600" cy="2738520"/>
          </a:xfrm>
          <a:custGeom>
            <a:avLst/>
            <a:gdLst/>
            <a:ahLst/>
            <a:rect l="l" t="t" r="r" b="b"/>
            <a:pathLst>
              <a:path w="3041" h="1725">
                <a:moveTo>
                  <a:pt x="3041" y="1725"/>
                </a:moveTo>
                <a:lnTo>
                  <a:pt x="3041" y="304"/>
                </a:lnTo>
                <a:lnTo>
                  <a:pt x="0" y="304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2011320"/>
            <a:ext cx="15840" cy="11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1040" y="3621240"/>
            <a:ext cx="3251160" cy="1128600"/>
          </a:xfrm>
          <a:custGeom>
            <a:avLst/>
            <a:gdLst/>
            <a:ahLst/>
            <a:rect l="l" t="t" r="r" b="b"/>
            <a:pathLst>
              <a:path w="2048" h="711">
                <a:moveTo>
                  <a:pt x="2048" y="711"/>
                </a:moveTo>
                <a:lnTo>
                  <a:pt x="2048" y="0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21040" y="3541680"/>
            <a:ext cx="160560" cy="7956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01" y="0"/>
                </a:moveTo>
                <a:lnTo>
                  <a:pt x="0" y="50"/>
                </a:lnTo>
                <a:lnTo>
                  <a:pt x="101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3621240"/>
            <a:ext cx="160560" cy="82440"/>
          </a:xfrm>
          <a:custGeom>
            <a:avLst/>
            <a:gdLst/>
            <a:ahLst/>
            <a:rect l="l" t="t" r="r" b="b"/>
            <a:pathLst>
              <a:path w="101" h="52">
                <a:moveTo>
                  <a:pt x="101" y="52"/>
                </a:moveTo>
                <a:lnTo>
                  <a:pt x="0" y="0"/>
                </a:lnTo>
                <a:lnTo>
                  <a:pt x="101" y="5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2000" y="375588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7080" y="368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5840" y="3755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87360" y="368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0880" y="4765680"/>
            <a:ext cx="159372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0880" y="4765680"/>
            <a:ext cx="159372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37880" y="481824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900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720" y="5087880"/>
            <a:ext cx="156204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41680" y="4772160"/>
            <a:ext cx="159372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48160" y="4767120"/>
            <a:ext cx="159228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95720" y="481824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544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5087880"/>
            <a:ext cx="156060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0000" y="4105440"/>
            <a:ext cx="1447560" cy="644400"/>
          </a:xfrm>
          <a:custGeom>
            <a:avLst/>
            <a:gdLst/>
            <a:ahLst/>
            <a:rect l="l" t="t" r="r" b="b"/>
            <a:pathLst>
              <a:path w="912" h="406">
                <a:moveTo>
                  <a:pt x="0" y="406"/>
                </a:moveTo>
                <a:lnTo>
                  <a:pt x="0" y="203"/>
                </a:lnTo>
                <a:lnTo>
                  <a:pt x="912" y="203"/>
                </a:lnTo>
                <a:lnTo>
                  <a:pt x="912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87560" y="4105440"/>
            <a:ext cx="1447920" cy="644400"/>
          </a:xfrm>
          <a:custGeom>
            <a:avLst/>
            <a:gdLst/>
            <a:ahLst/>
            <a:rect l="l" t="t" r="r" b="b"/>
            <a:pathLst>
              <a:path w="912" h="406">
                <a:moveTo>
                  <a:pt x="912" y="406"/>
                </a:moveTo>
                <a:lnTo>
                  <a:pt x="912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4320" y="5389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57080" y="5532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60200" y="5904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40440" y="5232240"/>
            <a:ext cx="1287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0440" y="5153040"/>
            <a:ext cx="322200" cy="160200"/>
          </a:xfrm>
          <a:custGeom>
            <a:avLst/>
            <a:gdLst/>
            <a:ahLst/>
            <a:rect l="l" t="t" r="r" b="b"/>
            <a:pathLst>
              <a:path w="203" h="101">
                <a:moveTo>
                  <a:pt x="102" y="0"/>
                </a:moveTo>
                <a:lnTo>
                  <a:pt x="0" y="50"/>
                </a:lnTo>
                <a:lnTo>
                  <a:pt x="102" y="101"/>
                </a:lnTo>
                <a:lnTo>
                  <a:pt x="203" y="50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0440" y="5153040"/>
            <a:ext cx="322200" cy="160200"/>
          </a:xfrm>
          <a:custGeom>
            <a:avLst/>
            <a:gdLst/>
            <a:ahLst/>
            <a:rect l="l" t="t" r="r" b="b"/>
            <a:pathLst>
              <a:path w="203" h="101">
                <a:moveTo>
                  <a:pt x="0" y="50"/>
                </a:moveTo>
                <a:lnTo>
                  <a:pt x="102" y="0"/>
                </a:lnTo>
                <a:lnTo>
                  <a:pt x="203" y="50"/>
                </a:lnTo>
                <a:lnTo>
                  <a:pt x="102" y="101"/>
                </a:lnTo>
                <a:lnTo>
                  <a:pt x="0" y="5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8040" y="488484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03520" y="48099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1320" y="48848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2840" y="48099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40160" y="53690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06400" y="52941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3680" y="556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4948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55240" y="556092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780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5960" y="556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4320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0760" y="536904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38400" y="52941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2720" y="5067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77680" y="50626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9480" y="50626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C19D-9AA6-4789-8531-30DAD7F93D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9840" y="736560"/>
            <a:ext cx="861372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pack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String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Data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rdered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ontainer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ibut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ibut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multiValued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Boolean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3366"/>
                </a:solidFill>
                <a:latin typeface="Comic Sans MS"/>
              </a:rPr>
              <a:t>*For more information on KM3 see http://www.eclipse.org/gmt/am3/zoos/atlanticZo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The Class Metamodel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n KM3*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95480" y="588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3320" y="273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13360" y="703440"/>
            <a:ext cx="3079800" cy="21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771480"/>
            <a:ext cx="614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40480" y="771480"/>
            <a:ext cx="61452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29840" y="792000"/>
            <a:ext cx="294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NamedEl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09920" y="7635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6960" y="895320"/>
            <a:ext cx="6015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85480" y="92880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580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34800" y="928800"/>
            <a:ext cx="159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924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7440" y="92880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0976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22360" y="928800"/>
            <a:ext cx="1666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8292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40480" y="1579680"/>
            <a:ext cx="663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1579680"/>
            <a:ext cx="663480" cy="36648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1160" y="1598760"/>
            <a:ext cx="28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Classifi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33680" y="1569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46960" y="1703520"/>
            <a:ext cx="65088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580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1452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4008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8308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17000" y="2200320"/>
            <a:ext cx="707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17000" y="2200320"/>
            <a:ext cx="70776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63600" y="2220840"/>
            <a:ext cx="26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1812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3120" y="2324160"/>
            <a:ext cx="69552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2000" y="235728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0196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9880" y="2357280"/>
            <a:ext cx="320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ultivalu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3532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44680" y="235728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6736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4200" y="235728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1000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0" y="1138320"/>
            <a:ext cx="1863720" cy="1055520"/>
          </a:xfrm>
          <a:custGeom>
            <a:avLst/>
            <a:gdLst/>
            <a:ahLst/>
            <a:rect l="l" t="t" r="r" b="b"/>
            <a:pathLst>
              <a:path w="1174" h="665">
                <a:moveTo>
                  <a:pt x="1174" y="665"/>
                </a:moveTo>
                <a:lnTo>
                  <a:pt x="1174" y="117"/>
                </a:lnTo>
                <a:lnTo>
                  <a:pt x="0" y="117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0" y="1138320"/>
            <a:ext cx="648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3960" y="1758960"/>
            <a:ext cx="1255680" cy="434880"/>
          </a:xfrm>
          <a:custGeom>
            <a:avLst/>
            <a:gdLst/>
            <a:ahLst/>
            <a:rect l="l" t="t" r="r" b="b"/>
            <a:pathLst>
              <a:path w="791" h="274">
                <a:moveTo>
                  <a:pt x="791" y="274"/>
                </a:moveTo>
                <a:lnTo>
                  <a:pt x="791" y="0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03960" y="172728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9" y="0"/>
                </a:moveTo>
                <a:lnTo>
                  <a:pt x="0" y="20"/>
                </a:lnTo>
                <a:lnTo>
                  <a:pt x="39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03960" y="175896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9" y="20"/>
                </a:moveTo>
                <a:lnTo>
                  <a:pt x="0" y="0"/>
                </a:lnTo>
                <a:lnTo>
                  <a:pt x="39" y="2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14480" y="1809720"/>
            <a:ext cx="120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32200" y="17812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48960" y="180972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280" y="17812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81760" y="2200320"/>
            <a:ext cx="614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81760" y="2200320"/>
            <a:ext cx="61416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7960" y="2220840"/>
            <a:ext cx="28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4796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6440" y="2324160"/>
            <a:ext cx="6033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99200" y="2200320"/>
            <a:ext cx="614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99200" y="2200320"/>
            <a:ext cx="61452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47960" y="2220840"/>
            <a:ext cx="169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0852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05680" y="2324160"/>
            <a:ext cx="6015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84880" y="1946160"/>
            <a:ext cx="558720" cy="247680"/>
          </a:xfrm>
          <a:custGeom>
            <a:avLst/>
            <a:gdLst/>
            <a:ahLst/>
            <a:rect l="l" t="t" r="r" b="b"/>
            <a:pathLst>
              <a:path w="352" h="156">
                <a:moveTo>
                  <a:pt x="0" y="156"/>
                </a:moveTo>
                <a:lnTo>
                  <a:pt x="0" y="78"/>
                </a:lnTo>
                <a:lnTo>
                  <a:pt x="352" y="78"/>
                </a:lnTo>
                <a:lnTo>
                  <a:pt x="352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0" y="1946160"/>
            <a:ext cx="559080" cy="247680"/>
          </a:xfrm>
          <a:custGeom>
            <a:avLst/>
            <a:gdLst/>
            <a:ahLst/>
            <a:rect l="l" t="t" r="r" b="b"/>
            <a:pathLst>
              <a:path w="352" h="156">
                <a:moveTo>
                  <a:pt x="352" y="156"/>
                </a:moveTo>
                <a:lnTo>
                  <a:pt x="352" y="78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75080" y="24400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98680" y="24400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84440" y="24955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1800" y="26384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13720" y="2381400"/>
            <a:ext cx="496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13720" y="2349360"/>
            <a:ext cx="123840" cy="61920"/>
          </a:xfrm>
          <a:custGeom>
            <a:avLst/>
            <a:gdLst/>
            <a:ahLst/>
            <a:rect l="l" t="t" r="r" b="b"/>
            <a:pathLst>
              <a:path w="78" h="39">
                <a:moveTo>
                  <a:pt x="39" y="0"/>
                </a:moveTo>
                <a:lnTo>
                  <a:pt x="0" y="20"/>
                </a:lnTo>
                <a:lnTo>
                  <a:pt x="39" y="39"/>
                </a:lnTo>
                <a:lnTo>
                  <a:pt x="78" y="2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13720" y="2349360"/>
            <a:ext cx="123840" cy="61920"/>
          </a:xfrm>
          <a:custGeom>
            <a:avLst/>
            <a:gdLst/>
            <a:ahLst/>
            <a:rect l="l" t="t" r="r" b="b"/>
            <a:pathLst>
              <a:path w="78" h="39">
                <a:moveTo>
                  <a:pt x="0" y="20"/>
                </a:moveTo>
                <a:lnTo>
                  <a:pt x="39" y="0"/>
                </a:lnTo>
                <a:lnTo>
                  <a:pt x="78" y="20"/>
                </a:lnTo>
                <a:lnTo>
                  <a:pt x="39" y="39"/>
                </a:lnTo>
                <a:lnTo>
                  <a:pt x="0" y="2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62920" y="2244600"/>
            <a:ext cx="9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tt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45000" y="22161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9000" y="224460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59320" y="22161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18360" y="2432160"/>
            <a:ext cx="2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45000" y="24033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06680" y="2506680"/>
            <a:ext cx="2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3080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49160" y="2506680"/>
            <a:ext cx="218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6084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74880" y="2506680"/>
            <a:ext cx="2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9720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97240" y="2432160"/>
            <a:ext cx="17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63920" y="24033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8108-C7E5-4E7C-9B87-BE465CAC79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7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A9BA-9377-41F4-B325-557C2AB38C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lationa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03360" y="1182600"/>
            <a:ext cx="7905960" cy="3969360"/>
            <a:chOff x="603360" y="1182600"/>
            <a:chExt cx="7905960" cy="3969360"/>
          </a:xfrm>
        </p:grpSpPr>
        <p:sp>
          <p:nvSpPr>
            <p:cNvPr id="383" name=""/>
            <p:cNvSpPr/>
            <p:nvPr/>
          </p:nvSpPr>
          <p:spPr>
            <a:xfrm>
              <a:off x="8444520" y="48466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3360" y="1182600"/>
              <a:ext cx="7785000" cy="38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00440" y="1362240"/>
              <a:ext cx="1606680" cy="9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00440" y="1362240"/>
              <a:ext cx="1606680" cy="9554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37200" y="1413000"/>
              <a:ext cx="59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Na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25080" y="13431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18080" y="168588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8440" y="176688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2364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08520" y="176688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5672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41600" y="1766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0604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1640" y="17668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6000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" y="3306600"/>
              <a:ext cx="160488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2640" y="3306600"/>
              <a:ext cx="160488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80240" y="336240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42120" y="3292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848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14440" y="2317680"/>
              <a:ext cx="3081240" cy="973080"/>
            </a:xfrm>
            <a:custGeom>
              <a:avLst/>
              <a:gdLst/>
              <a:ahLst/>
              <a:rect l="l" t="t" r="r" b="b"/>
              <a:pathLst>
                <a:path w="1941" h="613">
                  <a:moveTo>
                    <a:pt x="0" y="613"/>
                  </a:moveTo>
                  <a:lnTo>
                    <a:pt x="0" y="307"/>
                  </a:lnTo>
                  <a:lnTo>
                    <a:pt x="1941" y="307"/>
                  </a:lnTo>
                  <a:lnTo>
                    <a:pt x="1941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0440" y="3306600"/>
              <a:ext cx="160668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00440" y="3306600"/>
              <a:ext cx="160668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2640" y="335448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58560" y="32846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1808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87520" y="3778200"/>
              <a:ext cx="1297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7520" y="3697200"/>
              <a:ext cx="324000" cy="16200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102" y="0"/>
                  </a:moveTo>
                  <a:lnTo>
                    <a:pt x="0" y="51"/>
                  </a:lnTo>
                  <a:lnTo>
                    <a:pt x="102" y="102"/>
                  </a:lnTo>
                  <a:lnTo>
                    <a:pt x="204" y="5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7520" y="3697200"/>
              <a:ext cx="324000" cy="16200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51"/>
                  </a:moveTo>
                  <a:lnTo>
                    <a:pt x="102" y="0"/>
                  </a:lnTo>
                  <a:lnTo>
                    <a:pt x="204" y="51"/>
                  </a:lnTo>
                  <a:lnTo>
                    <a:pt x="102" y="102"/>
                  </a:lnTo>
                  <a:lnTo>
                    <a:pt x="0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25840" y="38768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08960" y="3805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94080" y="3876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10720" y="3805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4560" y="34225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1072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3520" y="34225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5980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4040" y="39085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17200" y="383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84320" y="410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5668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52360" y="41022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5824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10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364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87520" y="3778200"/>
              <a:ext cx="1297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520" y="3697200"/>
              <a:ext cx="16200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0"/>
                  </a:moveTo>
                  <a:lnTo>
                    <a:pt x="0" y="51"/>
                  </a:lnTo>
                  <a:lnTo>
                    <a:pt x="102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87520" y="3778200"/>
              <a:ext cx="16200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51"/>
                  </a:moveTo>
                  <a:lnTo>
                    <a:pt x="0" y="0"/>
                  </a:lnTo>
                  <a:lnTo>
                    <a:pt x="102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0080" y="4264200"/>
              <a:ext cx="2595600" cy="649080"/>
            </a:xfrm>
            <a:custGeom>
              <a:avLst/>
              <a:gdLst/>
              <a:ahLst/>
              <a:rect l="l" t="t" r="r" b="b"/>
              <a:pathLst>
                <a:path w="1635" h="409">
                  <a:moveTo>
                    <a:pt x="0" y="0"/>
                  </a:moveTo>
                  <a:lnTo>
                    <a:pt x="0" y="409"/>
                  </a:lnTo>
                  <a:lnTo>
                    <a:pt x="1635" y="409"/>
                  </a:lnTo>
                  <a:lnTo>
                    <a:pt x="1635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2800" y="447660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1224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12840" y="4476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2948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39400" y="447660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3280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5680" y="4264200"/>
              <a:ext cx="8100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51" y="102"/>
                  </a:moveTo>
                  <a:lnTo>
                    <a:pt x="0" y="0"/>
                  </a:lnTo>
                  <a:lnTo>
                    <a:pt x="51" y="102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14680" y="4264200"/>
              <a:ext cx="8100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02"/>
                  </a:moveTo>
                  <a:lnTo>
                    <a:pt x="51" y="0"/>
                  </a:lnTo>
                  <a:lnTo>
                    <a:pt x="0" y="102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47660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720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86280" y="4476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0292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35720" y="4476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1888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0040" y="3306600"/>
              <a:ext cx="160632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040" y="3306600"/>
              <a:ext cx="160632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48240" y="336240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63680" y="3292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732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317680"/>
              <a:ext cx="15840" cy="9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07120" y="3778200"/>
              <a:ext cx="12967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43640" y="34225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680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42200" y="377820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1"/>
                  </a:moveTo>
                  <a:lnTo>
                    <a:pt x="102" y="0"/>
                  </a:lnTo>
                  <a:lnTo>
                    <a:pt x="0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42200" y="369720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0"/>
                  </a:moveTo>
                  <a:lnTo>
                    <a:pt x="102" y="51"/>
                  </a:lnTo>
                  <a:lnTo>
                    <a:pt x="0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3720" y="34225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3644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640" y="34225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6492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2317680"/>
              <a:ext cx="2919600" cy="973080"/>
            </a:xfrm>
            <a:custGeom>
              <a:avLst/>
              <a:gdLst/>
              <a:ahLst/>
              <a:rect l="l" t="t" r="r" b="b"/>
              <a:pathLst>
                <a:path w="1839" h="613">
                  <a:moveTo>
                    <a:pt x="1839" y="613"/>
                  </a:moveTo>
                  <a:lnTo>
                    <a:pt x="1839" y="307"/>
                  </a:lnTo>
                  <a:lnTo>
                    <a:pt x="0" y="307"/>
                  </a:lnTo>
                  <a:lnTo>
                    <a:pt x="0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654D-7CD9-46A3-A7B2-353A9B40DB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1052640"/>
            <a:ext cx="8178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pack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Relationa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String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rdered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ontainer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Of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Of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lational Metamodel in KM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795920" y="587520"/>
            <a:ext cx="4250880" cy="2134440"/>
            <a:chOff x="4795920" y="587520"/>
            <a:chExt cx="4250880" cy="2134440"/>
          </a:xfrm>
        </p:grpSpPr>
        <p:sp>
          <p:nvSpPr>
            <p:cNvPr id="471" name=""/>
            <p:cNvSpPr/>
            <p:nvPr/>
          </p:nvSpPr>
          <p:spPr>
            <a:xfrm>
              <a:off x="9011160" y="2554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95920" y="587520"/>
              <a:ext cx="4187880" cy="20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61280" y="682560"/>
              <a:ext cx="8632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61280" y="682560"/>
              <a:ext cx="8632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70880" y="71136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Nam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3200" y="671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70640" y="85716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22840" y="90180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7900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91600" y="9018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1228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08680" y="90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3928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51880" y="90180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372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90960" y="1728720"/>
              <a:ext cx="86364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90960" y="1728720"/>
              <a:ext cx="86364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33320" y="1757520"/>
              <a:ext cx="22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760" y="1719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00680" y="190332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30800" y="1197000"/>
              <a:ext cx="1658880" cy="523800"/>
            </a:xfrm>
            <a:custGeom>
              <a:avLst/>
              <a:gdLst/>
              <a:ahLst/>
              <a:rect l="l" t="t" r="r" b="b"/>
              <a:pathLst>
                <a:path w="1045" h="330">
                  <a:moveTo>
                    <a:pt x="0" y="330"/>
                  </a:moveTo>
                  <a:lnTo>
                    <a:pt x="0" y="165"/>
                  </a:lnTo>
                  <a:lnTo>
                    <a:pt x="1045" y="165"/>
                  </a:lnTo>
                  <a:lnTo>
                    <a:pt x="104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61280" y="1728720"/>
              <a:ext cx="8632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61280" y="1728720"/>
              <a:ext cx="8632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56480" y="17524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2280" y="1714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70640" y="190332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5460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4600" y="1938240"/>
              <a:ext cx="174600" cy="874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110" y="2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54600" y="1938240"/>
              <a:ext cx="174600" cy="874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0" y="27"/>
                  </a:moveTo>
                  <a:lnTo>
                    <a:pt x="55" y="0"/>
                  </a:lnTo>
                  <a:lnTo>
                    <a:pt x="110" y="27"/>
                  </a:lnTo>
                  <a:lnTo>
                    <a:pt x="55" y="55"/>
                  </a:lnTo>
                  <a:lnTo>
                    <a:pt x="0" y="27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02920" y="20368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40880" y="1995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16520" y="20368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2680" y="1995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0960" y="179244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568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5720" y="179244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18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0160" y="20527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59760" y="20113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24960" y="21574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5844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82920" y="21574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8208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99360" y="21574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3464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460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54600" y="1938240"/>
              <a:ext cx="8748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5" y="0"/>
                  </a:moveTo>
                  <a:lnTo>
                    <a:pt x="0" y="27"/>
                  </a:lnTo>
                  <a:lnTo>
                    <a:pt x="5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54600" y="198108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5" y="28"/>
                  </a:moveTo>
                  <a:lnTo>
                    <a:pt x="0" y="0"/>
                  </a:lnTo>
                  <a:lnTo>
                    <a:pt x="55" y="28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92880" y="2243160"/>
              <a:ext cx="1396800" cy="349200"/>
            </a:xfrm>
            <a:custGeom>
              <a:avLst/>
              <a:gdLst/>
              <a:ahLst/>
              <a:rect l="l" t="t" r="r" b="b"/>
              <a:pathLst>
                <a:path w="880" h="220">
                  <a:moveTo>
                    <a:pt x="0" y="0"/>
                  </a:moveTo>
                  <a:lnTo>
                    <a:pt x="0" y="220"/>
                  </a:lnTo>
                  <a:lnTo>
                    <a:pt x="880" y="220"/>
                  </a:lnTo>
                  <a:lnTo>
                    <a:pt x="88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2080" y="23590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4248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27480" y="23590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364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81080" y="235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328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89680" y="2243160"/>
              <a:ext cx="42840" cy="8712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7" y="55"/>
                  </a:moveTo>
                  <a:lnTo>
                    <a:pt x="0" y="0"/>
                  </a:lnTo>
                  <a:lnTo>
                    <a:pt x="27" y="5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45400" y="2243160"/>
              <a:ext cx="44280" cy="871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0" y="55"/>
                  </a:moveTo>
                  <a:lnTo>
                    <a:pt x="28" y="0"/>
                  </a:lnTo>
                  <a:lnTo>
                    <a:pt x="0" y="5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5000" y="2359080"/>
              <a:ext cx="13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4396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19680" y="23590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7584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66360" y="23590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596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31240" y="1728720"/>
              <a:ext cx="8650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31240" y="1728720"/>
              <a:ext cx="8650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86560" y="1757520"/>
              <a:ext cx="20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590320" y="1719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40600" y="1903320"/>
              <a:ext cx="84636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89680" y="1197000"/>
              <a:ext cx="792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456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55240" y="17924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484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35840" y="198108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8"/>
                  </a:moveTo>
                  <a:lnTo>
                    <a:pt x="55" y="0"/>
                  </a:lnTo>
                  <a:lnTo>
                    <a:pt x="0" y="28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5840" y="1938240"/>
              <a:ext cx="8748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0"/>
                  </a:moveTo>
                  <a:lnTo>
                    <a:pt x="55" y="27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3040" y="179244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300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73760" y="179244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136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89680" y="1197000"/>
              <a:ext cx="1569960" cy="523800"/>
            </a:xfrm>
            <a:custGeom>
              <a:avLst/>
              <a:gdLst/>
              <a:ahLst/>
              <a:rect l="l" t="t" r="r" b="b"/>
              <a:pathLst>
                <a:path w="989" h="330">
                  <a:moveTo>
                    <a:pt x="989" y="330"/>
                  </a:moveTo>
                  <a:lnTo>
                    <a:pt x="989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AB82-B773-4EE3-B057-DF252A88A7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formal description of rul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lass2Tabl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created from each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olumn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correspond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ingle-valued attribute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clas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column corresponding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is creat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column is created from each single-valued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ultiValuedAttribute2Colum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with two columns is created from each multi-valued attribut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ne column refers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created from the owner class of the attribut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second column contains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alu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21A0-3C0D-46E1-B806-F451C867727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2500" spc="-1" strike="noStrike">
                <a:solidFill>
                  <a:srgbClr val="006600"/>
                </a:solidFill>
                <a:latin typeface="Comic Sans MS"/>
              </a:rPr>
              <a:t>Tabl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created for each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ff0000"/>
                </a:solidFill>
                <a:latin typeface="Comic Sans MS"/>
              </a:rPr>
              <a:t>-- source patter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c : Class!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to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006600"/>
                </a:solidFill>
                <a:latin typeface="Comic Sans MS"/>
              </a:rPr>
              <a:t>-- target patter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t : Relational!Tab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8175-ACD9-41F2-A2A5-D56A0D52494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f the Table is 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f the Clas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 : Relational!Table 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(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name &lt;- c.name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ff0000"/>
                </a:solidFill>
                <a:latin typeface="Comic Sans MS"/>
              </a:rPr>
              <a:t>-- a simple bind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3E5D-8F1B-49F7-957A-B2504A747C7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column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of the table correspond to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the single-valued attributes of the clas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 : Relational!Table (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ame &lt;- c.name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col &lt;- c.attr-&gt;select(e |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a binding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not e.multiValued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using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complex navig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mark: attributes are automatically resolved into columns by automatic traceability suppor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9E20-4CD0-4F40-89FE-E2C08E92750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863640"/>
            <a:ext cx="84582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ach Table owns a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containing a unique identifier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 : Relational!Table (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ame &lt;- c.name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ol &lt;- c.attr-&gt;select(e |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ot e.multiValu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-&gt;union(Sequence {key})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key &lt;- Set {key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key : Relational!Column (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another targe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name &lt;- ‘Id’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pattern eleme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for the ke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34E1-59B7-4319-9D3D-22030E97298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xample: Class to Relational, rule </a:t>
            </a: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Column is created for each </a:t>
            </a:r>
            <a:r>
              <a:rPr b="0" lang="en-US" sz="2500" spc="-1" strike="noStrike">
                <a:solidFill>
                  <a:srgbClr val="006600"/>
                </a:solidFill>
                <a:latin typeface="Comic Sans MS"/>
              </a:rPr>
              <a:t>single-valu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ttribut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SingleValuedAttribute2Column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006600"/>
                </a:solidFill>
                <a:latin typeface="Comic Sans MS"/>
              </a:rPr>
              <a:t>-- the guard is used for sele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: Class!Attribute 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(not a.multiValued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 : Relational!Column (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me &lt;- a.nam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75F7-71CC-407F-B472-326F17C84FF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xample: Class to Relational, rule </a:t>
            </a: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MultiValuedAttribute2Column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17520" y="723960"/>
            <a:ext cx="8750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is created for each </a:t>
            </a:r>
            <a:r>
              <a:rPr b="0" lang="en-US" sz="1900" spc="-1" strike="noStrike">
                <a:solidFill>
                  <a:srgbClr val="006600"/>
                </a:solidFill>
                <a:latin typeface="Comic Sans MS"/>
              </a:rPr>
              <a:t>multi-valued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Attribute, which contains two columns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dentifier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of the table created from the class owner of the Attribut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4d4d4d"/>
                </a:solidFill>
                <a:latin typeface="Comic Sans MS"/>
              </a:rPr>
              <a:t>value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 MultiValuedAttribute2Column {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a : Class!Attribute </a:t>
            </a:r>
            <a:r>
              <a:rPr b="0" lang="en-GB" sz="1900" spc="-1" strike="noStrike">
                <a:solidFill>
                  <a:srgbClr val="006600"/>
                </a:solidFill>
                <a:latin typeface="Comic Sans MS"/>
              </a:rPr>
              <a:t>(a.multiValued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t : Relational!Table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name &lt;- a.owner.name + ‘_’ + a.name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col &lt;- Sequence {id, value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)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id : Relational!Column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name &lt;- ‘Id’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)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value : Relational!Column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name &lt;- a.nam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4591-E529-4FED-A746-70E878E53BC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ther ATL featur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917B-EF9C-4939-A781-82779FD94B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requisit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 be able to understand this lecture, a reader should be familiar with the following concepts, languages, and standard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del Driven Engineering (MD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ole of model transformations in MD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UM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C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Basic programming concepts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C869-C285-4CE7-96BE-2E7E07B46F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ther ATL features: rule inherit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ule inheritance, to help structure transformations and reuse rules and patter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child rule matches a subset of what its parent rule matche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ll the bindings of the parent still make sense for the chil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child rule specializes target elements of its parent rul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itialization of existing elements may be improved or chang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ew elements may be creat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yntax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abstract r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1 {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f7f5f"/>
                </a:solidFill>
                <a:latin typeface="Courier New"/>
              </a:rPr>
              <a:t>-- ..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r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2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extends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1 {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f7f5f"/>
                </a:solidFill>
                <a:latin typeface="Courier New"/>
              </a:rPr>
              <a:t>-- ..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3067-66B2-484A-9F11-52F8B54A9C2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ther ATL features: refining mo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fining mode for transformations that need to modify only a small part of a model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nce source models are read-only target models must be created from scratch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is can be done by writing copy rules for each elements that are not transform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is is not very elegant,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refining mode, the ATL engine automatically copies unmatched elemen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developer only specifies what chan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TL semantics is respected: source models are still read-onl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 (optimized) engine may modify source models in-place but only commit the changes in the en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yntax: replace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rom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by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refin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mod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A2A;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create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UT : MMA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refining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IN : MMA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B4DD-7560-403E-A735-6157FF0A77A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been used in a large number of application domai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library of transformations is available 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ttp://www.eclipse.org/gmt/atl/atlTransformations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ore th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scenario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ore th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single transformation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bout 100 sites use ATL for various purpos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aching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earch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dustrial development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0016-EB10-4093-9313-27101F44102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tools and documentation are available 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ttp://www.eclipse.org/gmt/atl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ecution engin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irtual machin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TL to bytecode compiler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tegrated Development Environment (IDE) for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ditor with syntax highlighting and outlin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ecution support with launch configuration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ource-level debugge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ocumentatio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arter’s guid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er manual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stallation guid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83CB-5015-4E18-99EE-F075662F937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perspective, editor and 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23800" y="677880"/>
            <a:ext cx="808848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08F4-B5B0-400F-A5EA-3D0A62192E9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launch configur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88800" y="766800"/>
            <a:ext cx="8217000" cy="50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AC34-77D4-4C1C-8690-6B171227A0E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source-level debugger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22440" y="725400"/>
            <a:ext cx="7748280" cy="54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78C1-3AEC-4121-8DA7-9FF97EC41C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B8C1-186C-4ECF-9F12-09059F96E5C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a simple declarative syntax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imple problems are generally solved simp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supports advanced featur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mplex OCL navigation, lazy rules, refining mode, rule inheritance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ny complex problems can be handled declarative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an imperative par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y problem can be handl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B44D-87BC-4F16-B2A6-FBA5BF18A425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7028-6359-4A07-9BEE-005ACFAC73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fini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perational contex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C797-2A65-49D4-B64D-1C21CC3352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fin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odel transform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the automatic creation of target models from source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del transformation is not only about M1 to M1 transformatio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1 to M2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omic Sans MS"/>
              </a:rPr>
              <a:t>promo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2 to M1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omic Sans MS"/>
              </a:rPr>
              <a:t>demo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3 to M1, M3 to M2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862680" y="3747960"/>
            <a:ext cx="1544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eta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6080" y="4686480"/>
            <a:ext cx="1141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57880" y="5603760"/>
            <a:ext cx="960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Terminal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7" idx="2"/>
          </p:cNvCxnSpPr>
          <p:nvPr/>
        </p:nvCxnSpPr>
        <p:spPr>
          <a:xfrm flipH="1" flipV="1">
            <a:off x="7636680" y="5000040"/>
            <a:ext cx="252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0"/>
            <a:endCxn id="66" idx="2"/>
          </p:cNvCxnSpPr>
          <p:nvPr/>
        </p:nvCxnSpPr>
        <p:spPr>
          <a:xfrm flipH="1" flipV="1">
            <a:off x="7635600" y="4061880"/>
            <a:ext cx="2160" cy="6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805000" y="37558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14720" y="468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2000" y="56102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6" idx="0"/>
            <a:endCxn id="66" idx="1"/>
          </p:cNvCxnSpPr>
          <p:nvPr/>
        </p:nvCxnSpPr>
        <p:spPr>
          <a:xfrm rot="5400000">
            <a:off x="7170120" y="3439080"/>
            <a:ext cx="158040" cy="774000"/>
          </a:xfrm>
          <a:prstGeom prst="curvedConnector5">
            <a:avLst>
              <a:gd name="adj1" fmla="val -145433"/>
              <a:gd name="adj2" fmla="val 64774"/>
              <a:gd name="adj3" fmla="val -1454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7BC6-40B0-49F5-A1DC-A87EF7DFDA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798440" y="4260960"/>
            <a:ext cx="630360" cy="630720"/>
            <a:chOff x="4798440" y="4260960"/>
            <a:chExt cx="630360" cy="630720"/>
          </a:xfrm>
        </p:grpSpPr>
        <p:sp>
          <p:nvSpPr>
            <p:cNvPr id="76" name=""/>
            <p:cNvSpPr/>
            <p:nvPr/>
          </p:nvSpPr>
          <p:spPr>
            <a:xfrm>
              <a:off x="4810320" y="458460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Comic Sans MS"/>
                </a:rPr>
                <a:t>G</a:t>
              </a: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 2 </a:t>
              </a:r>
              <a:r>
                <a:rPr b="1" lang="en-US" sz="1400" spc="-1" strike="noStrike">
                  <a:solidFill>
                    <a:srgbClr val="ff33cc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98440" y="426096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733200" y="4248000"/>
            <a:ext cx="630360" cy="631080"/>
            <a:chOff x="3733200" y="4248000"/>
            <a:chExt cx="630360" cy="631080"/>
          </a:xfrm>
        </p:grpSpPr>
        <p:sp>
          <p:nvSpPr>
            <p:cNvPr id="79" name=""/>
            <p:cNvSpPr/>
            <p:nvPr/>
          </p:nvSpPr>
          <p:spPr>
            <a:xfrm>
              <a:off x="3746160" y="457200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 2 </a:t>
              </a:r>
              <a:r>
                <a:rPr b="1" lang="en-US" sz="14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200" y="42480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perational context: small the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7320" y="5081760"/>
            <a:ext cx="2598480" cy="1096920"/>
            <a:chOff x="157320" y="5081760"/>
            <a:chExt cx="2598480" cy="1096920"/>
          </a:xfrm>
        </p:grpSpPr>
        <p:sp>
          <p:nvSpPr>
            <p:cNvPr id="83" name=""/>
            <p:cNvSpPr/>
            <p:nvPr/>
          </p:nvSpPr>
          <p:spPr>
            <a:xfrm>
              <a:off x="158760" y="5085000"/>
              <a:ext cx="25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7320" y="5081760"/>
              <a:ext cx="2598480" cy="109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300720" y="5083200"/>
            <a:ext cx="2598840" cy="1096920"/>
            <a:chOff x="6300720" y="5083200"/>
            <a:chExt cx="2598840" cy="1096920"/>
          </a:xfrm>
        </p:grpSpPr>
        <p:sp>
          <p:nvSpPr>
            <p:cNvPr id="86" name=""/>
            <p:cNvSpPr/>
            <p:nvPr/>
          </p:nvSpPr>
          <p:spPr>
            <a:xfrm>
              <a:off x="6302160" y="5086440"/>
              <a:ext cx="25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00720" y="5083200"/>
              <a:ext cx="2598840" cy="109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76040" y="2475000"/>
            <a:ext cx="2598840" cy="2606400"/>
            <a:chOff x="176040" y="2475000"/>
            <a:chExt cx="2598840" cy="2606400"/>
          </a:xfrm>
        </p:grpSpPr>
        <p:grpSp>
          <p:nvGrpSpPr>
            <p:cNvPr id="89" name=""/>
            <p:cNvGrpSpPr/>
            <p:nvPr/>
          </p:nvGrpSpPr>
          <p:grpSpPr>
            <a:xfrm>
              <a:off x="176040" y="2475000"/>
              <a:ext cx="2598840" cy="1789200"/>
              <a:chOff x="176040" y="2475000"/>
              <a:chExt cx="2598840" cy="1789200"/>
            </a:xfrm>
          </p:grpSpPr>
          <p:sp>
            <p:nvSpPr>
              <p:cNvPr id="90" name=""/>
              <p:cNvSpPr/>
              <p:nvPr/>
            </p:nvSpPr>
            <p:spPr>
              <a:xfrm>
                <a:off x="177480" y="2480760"/>
                <a:ext cx="259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Comic Sans MS"/>
                  </a:rPr>
                  <a:t>M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6040" y="2475000"/>
                <a:ext cx="2598840" cy="178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2" name=""/>
            <p:cNvCxnSpPr>
              <a:stCxn id="84" idx="0"/>
              <a:endCxn id="91" idx="2"/>
            </p:cNvCxnSpPr>
            <p:nvPr/>
          </p:nvCxnSpPr>
          <p:spPr>
            <a:xfrm flipV="1">
              <a:off x="1456920" y="4263480"/>
              <a:ext cx="19800" cy="818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93" name=""/>
            <p:cNvGrpSpPr/>
            <p:nvPr/>
          </p:nvGrpSpPr>
          <p:grpSpPr>
            <a:xfrm>
              <a:off x="1451880" y="2592360"/>
              <a:ext cx="792000" cy="718920"/>
              <a:chOff x="1451880" y="2592360"/>
              <a:chExt cx="792000" cy="718920"/>
            </a:xfrm>
          </p:grpSpPr>
          <p:sp>
            <p:nvSpPr>
              <p:cNvPr id="94" name=""/>
              <p:cNvSpPr/>
              <p:nvPr/>
            </p:nvSpPr>
            <p:spPr>
              <a:xfrm>
                <a:off x="1451880" y="29192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Comic Sans MS"/>
                  </a:rPr>
                  <a:t>Gr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96" idx="2"/>
                <a:endCxn id="96" idx="6"/>
              </p:cNvCxnSpPr>
              <p:nvPr/>
            </p:nvCxnSpPr>
            <p:spPr>
              <a:xfrm>
                <a:off x="1504800" y="295236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7" name=""/>
              <p:cNvSpPr/>
              <p:nvPr/>
            </p:nvSpPr>
            <p:spPr>
              <a:xfrm>
                <a:off x="1568520" y="264636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04800" y="259236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500120" y="3500280"/>
              <a:ext cx="719640" cy="718920"/>
              <a:chOff x="1500120" y="3500280"/>
              <a:chExt cx="719640" cy="718920"/>
            </a:xfrm>
          </p:grpSpPr>
          <p:sp>
            <p:nvSpPr>
              <p:cNvPr id="99" name=""/>
              <p:cNvSpPr/>
              <p:nvPr/>
            </p:nvSpPr>
            <p:spPr>
              <a:xfrm>
                <a:off x="1562400" y="382716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0" name=""/>
              <p:cNvCxnSpPr>
                <a:stCxn id="101" idx="2"/>
                <a:endCxn id="101" idx="6"/>
              </p:cNvCxnSpPr>
              <p:nvPr/>
            </p:nvCxnSpPr>
            <p:spPr>
              <a:xfrm>
                <a:off x="1500120" y="386028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1563840" y="355428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0120" y="350028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300720" y="2468520"/>
            <a:ext cx="2598840" cy="2614320"/>
            <a:chOff x="6300720" y="2468520"/>
            <a:chExt cx="2598840" cy="2614320"/>
          </a:xfrm>
        </p:grpSpPr>
        <p:grpSp>
          <p:nvGrpSpPr>
            <p:cNvPr id="104" name=""/>
            <p:cNvGrpSpPr/>
            <p:nvPr/>
          </p:nvGrpSpPr>
          <p:grpSpPr>
            <a:xfrm>
              <a:off x="6300720" y="2468520"/>
              <a:ext cx="2598840" cy="1803600"/>
              <a:chOff x="6300720" y="2468520"/>
              <a:chExt cx="2598840" cy="1803600"/>
            </a:xfrm>
          </p:grpSpPr>
          <p:sp>
            <p:nvSpPr>
              <p:cNvPr id="105" name=""/>
              <p:cNvSpPr/>
              <p:nvPr/>
            </p:nvSpPr>
            <p:spPr>
              <a:xfrm>
                <a:off x="6302160" y="2474280"/>
                <a:ext cx="259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Comic Sans MS"/>
                  </a:rPr>
                  <a:t>MM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00720" y="2468520"/>
                <a:ext cx="2598840" cy="180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7" name=""/>
            <p:cNvCxnSpPr>
              <a:stCxn id="87" idx="0"/>
              <a:endCxn id="106" idx="2"/>
            </p:cNvCxnSpPr>
            <p:nvPr/>
          </p:nvCxnSpPr>
          <p:spPr>
            <a:xfrm flipV="1">
              <a:off x="7600680" y="4271400"/>
              <a:ext cx="1080" cy="81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108" name=""/>
            <p:cNvGrpSpPr/>
            <p:nvPr/>
          </p:nvGrpSpPr>
          <p:grpSpPr>
            <a:xfrm>
              <a:off x="7611840" y="2573280"/>
              <a:ext cx="728280" cy="718920"/>
              <a:chOff x="7611840" y="2573280"/>
              <a:chExt cx="728280" cy="718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639560" y="290016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B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11" idx="2"/>
                <a:endCxn id="111" idx="6"/>
              </p:cNvCxnSpPr>
              <p:nvPr/>
            </p:nvCxnSpPr>
            <p:spPr>
              <a:xfrm>
                <a:off x="7611840" y="2933280"/>
                <a:ext cx="719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" name=""/>
              <p:cNvSpPr/>
              <p:nvPr/>
            </p:nvSpPr>
            <p:spPr>
              <a:xfrm>
                <a:off x="7644240" y="260172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2200" y="2573280"/>
                <a:ext cx="71892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607160" y="3481560"/>
              <a:ext cx="719640" cy="718920"/>
              <a:chOff x="7607160" y="3481560"/>
              <a:chExt cx="719640" cy="718920"/>
            </a:xfrm>
          </p:grpSpPr>
          <p:sp>
            <p:nvSpPr>
              <p:cNvPr id="114" name=""/>
              <p:cNvSpPr/>
              <p:nvPr/>
            </p:nvSpPr>
            <p:spPr>
              <a:xfrm>
                <a:off x="7639200" y="380844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cc"/>
                    </a:solidFill>
                    <a:latin typeface="Comic Sans MS"/>
                  </a:rPr>
                  <a:t>P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stCxn id="116" idx="2"/>
                <a:endCxn id="116" idx="6"/>
              </p:cNvCxnSpPr>
              <p:nvPr/>
            </p:nvCxnSpPr>
            <p:spPr>
              <a:xfrm>
                <a:off x="7607160" y="384156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7670880" y="353556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07160" y="348156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162080" y="52117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12920" y="57531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3000" y="575640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23280" y="5568840"/>
            <a:ext cx="216000" cy="216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91360" y="528804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4440" y="573876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8" idx="6"/>
            <a:endCxn id="122" idx="1"/>
          </p:cNvCxnSpPr>
          <p:nvPr/>
        </p:nvCxnSpPr>
        <p:spPr>
          <a:xfrm>
            <a:off x="1377720" y="5319720"/>
            <a:ext cx="6746040" cy="2160"/>
          </a:xfrm>
          <a:prstGeom prst="curvedConnector5">
            <a:avLst>
              <a:gd name="adj1" fmla="val 5971"/>
              <a:gd name="adj2" fmla="val -1140000"/>
              <a:gd name="adj3" fmla="val 5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9" idx="5"/>
            <a:endCxn id="123" idx="3"/>
          </p:cNvCxnSpPr>
          <p:nvPr/>
        </p:nvCxnSpPr>
        <p:spPr>
          <a:xfrm flipH="1" flipV="1" rot="5400000">
            <a:off x="4523400" y="2894760"/>
            <a:ext cx="14760" cy="6069960"/>
          </a:xfrm>
          <a:prstGeom prst="curvedConnector5">
            <a:avLst>
              <a:gd name="adj1" fmla="val -1820000"/>
              <a:gd name="adj2" fmla="val 50000"/>
              <a:gd name="adj3" fmla="val -18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6"/>
            <a:endCxn id="121" idx="2"/>
          </p:cNvCxnSpPr>
          <p:nvPr/>
        </p:nvCxnSpPr>
        <p:spPr>
          <a:xfrm flipV="1">
            <a:off x="2258640" y="5676120"/>
            <a:ext cx="6165000" cy="188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" name=""/>
          <p:cNvGrpSpPr/>
          <p:nvPr/>
        </p:nvGrpSpPr>
        <p:grpSpPr>
          <a:xfrm>
            <a:off x="1476000" y="476280"/>
            <a:ext cx="6125040" cy="1998720"/>
            <a:chOff x="1476000" y="476280"/>
            <a:chExt cx="6125040" cy="1998720"/>
          </a:xfrm>
        </p:grpSpPr>
        <p:grpSp>
          <p:nvGrpSpPr>
            <p:cNvPr id="128" name=""/>
            <p:cNvGrpSpPr/>
            <p:nvPr/>
          </p:nvGrpSpPr>
          <p:grpSpPr>
            <a:xfrm>
              <a:off x="1476000" y="476280"/>
              <a:ext cx="6125040" cy="1998720"/>
              <a:chOff x="1476000" y="476280"/>
              <a:chExt cx="6125040" cy="1998720"/>
            </a:xfrm>
          </p:grpSpPr>
          <p:cxnSp>
            <p:nvCxnSpPr>
              <p:cNvPr id="129" name=""/>
              <p:cNvCxnSpPr>
                <a:stCxn id="91" idx="0"/>
                <a:endCxn id="130" idx="2"/>
              </p:cNvCxnSpPr>
              <p:nvPr/>
            </p:nvCxnSpPr>
            <p:spPr>
              <a:xfrm flipV="1">
                <a:off x="1476000" y="2009520"/>
                <a:ext cx="3012120" cy="4658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131" name=""/>
              <p:cNvCxnSpPr>
                <a:stCxn id="130" idx="0"/>
                <a:endCxn id="130" idx="1"/>
              </p:cNvCxnSpPr>
              <p:nvPr/>
            </p:nvCxnSpPr>
            <p:spPr>
              <a:xfrm rot="5400000">
                <a:off x="3510720" y="380880"/>
                <a:ext cx="653040" cy="1300680"/>
              </a:xfrm>
              <a:prstGeom prst="curvedConnector5">
                <a:avLst>
                  <a:gd name="adj1" fmla="val -35024"/>
                  <a:gd name="adj2" fmla="val 58776"/>
                  <a:gd name="adj3" fmla="val -35024"/>
                </a:avLst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  <p:grpSp>
            <p:nvGrpSpPr>
              <p:cNvPr id="132" name=""/>
              <p:cNvGrpSpPr/>
              <p:nvPr/>
            </p:nvGrpSpPr>
            <p:grpSpPr>
              <a:xfrm>
                <a:off x="3187800" y="704880"/>
                <a:ext cx="2598480" cy="1305000"/>
                <a:chOff x="3187800" y="704880"/>
                <a:chExt cx="2598480" cy="13050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189240" y="707760"/>
                  <a:ext cx="2595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66"/>
                      </a:solidFill>
                      <a:latin typeface="Comic Sans MS"/>
                    </a:rPr>
                    <a:t>Metametamod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87800" y="704880"/>
                  <a:ext cx="2598480" cy="1305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4" name=""/>
              <p:cNvCxnSpPr>
                <a:stCxn id="106" idx="0"/>
                <a:endCxn id="130" idx="2"/>
              </p:cNvCxnSpPr>
              <p:nvPr/>
            </p:nvCxnSpPr>
            <p:spPr>
              <a:xfrm flipH="1" flipV="1">
                <a:off x="4487400" y="2009520"/>
                <a:ext cx="3114000" cy="4593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grpSp>
          <p:nvGrpSpPr>
            <p:cNvPr id="135" name=""/>
            <p:cNvGrpSpPr/>
            <p:nvPr/>
          </p:nvGrpSpPr>
          <p:grpSpPr>
            <a:xfrm>
              <a:off x="4084560" y="1149480"/>
              <a:ext cx="730080" cy="718920"/>
              <a:chOff x="4084560" y="1149480"/>
              <a:chExt cx="730080" cy="718920"/>
            </a:xfrm>
          </p:grpSpPr>
          <p:sp>
            <p:nvSpPr>
              <p:cNvPr id="136" name=""/>
              <p:cNvSpPr/>
              <p:nvPr/>
            </p:nvSpPr>
            <p:spPr>
              <a:xfrm>
                <a:off x="4118760" y="147636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" name=""/>
              <p:cNvCxnSpPr>
                <a:stCxn id="138" idx="2"/>
                <a:endCxn id="138" idx="6"/>
              </p:cNvCxnSpPr>
              <p:nvPr/>
            </p:nvCxnSpPr>
            <p:spPr>
              <a:xfrm>
                <a:off x="4084560" y="150948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" name=""/>
              <p:cNvSpPr/>
              <p:nvPr/>
            </p:nvSpPr>
            <p:spPr>
              <a:xfrm>
                <a:off x="4117320" y="117792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84560" y="114948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0" name=""/>
          <p:cNvCxnSpPr>
            <a:endCxn id="141" idx="4"/>
          </p:cNvCxnSpPr>
          <p:nvPr/>
        </p:nvCxnSpPr>
        <p:spPr>
          <a:xfrm flipV="1">
            <a:off x="3535200" y="4938480"/>
            <a:ext cx="494640" cy="33408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endCxn id="141" idx="4"/>
          </p:cNvCxnSpPr>
          <p:nvPr/>
        </p:nvCxnSpPr>
        <p:spPr>
          <a:xfrm flipH="1" flipV="1">
            <a:off x="4028400" y="4938480"/>
            <a:ext cx="83160" cy="123696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endCxn id="144" idx="4"/>
          </p:cNvCxnSpPr>
          <p:nvPr/>
        </p:nvCxnSpPr>
        <p:spPr>
          <a:xfrm flipV="1">
            <a:off x="4973400" y="4950720"/>
            <a:ext cx="121320" cy="84060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3189240" y="2362320"/>
            <a:ext cx="2598840" cy="1214280"/>
            <a:chOff x="3189240" y="2362320"/>
            <a:chExt cx="2598840" cy="1214280"/>
          </a:xfrm>
        </p:grpSpPr>
        <p:sp>
          <p:nvSpPr>
            <p:cNvPr id="146" name=""/>
            <p:cNvSpPr/>
            <p:nvPr/>
          </p:nvSpPr>
          <p:spPr>
            <a:xfrm>
              <a:off x="3190680" y="2364840"/>
              <a:ext cx="25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9240" y="2362320"/>
              <a:ext cx="2598840" cy="12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417920" y="2657520"/>
            <a:ext cx="728640" cy="718920"/>
            <a:chOff x="4417920" y="2657520"/>
            <a:chExt cx="728640" cy="718920"/>
          </a:xfrm>
        </p:grpSpPr>
        <p:sp>
          <p:nvSpPr>
            <p:cNvPr id="149" name=""/>
            <p:cNvSpPr/>
            <p:nvPr/>
          </p:nvSpPr>
          <p:spPr>
            <a:xfrm>
              <a:off x="4482360" y="29844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2"/>
              <a:endCxn id="151" idx="6"/>
            </p:cNvCxnSpPr>
            <p:nvPr/>
          </p:nvCxnSpPr>
          <p:spPr>
            <a:xfrm>
              <a:off x="4417920" y="30175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4450680" y="2685960"/>
              <a:ext cx="69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7920" y="2657520"/>
              <a:ext cx="719280" cy="71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95720" y="3801960"/>
            <a:ext cx="2598480" cy="1332000"/>
            <a:chOff x="3195720" y="3801960"/>
            <a:chExt cx="2598480" cy="1332000"/>
          </a:xfrm>
        </p:grpSpPr>
        <p:cxnSp>
          <p:nvCxnSpPr>
            <p:cNvPr id="154" name=""/>
            <p:cNvCxnSpPr>
              <a:stCxn id="141" idx="2"/>
              <a:endCxn id="141" idx="6"/>
            </p:cNvCxnSpPr>
            <p:nvPr/>
          </p:nvCxnSpPr>
          <p:spPr>
            <a:xfrm>
              <a:off x="3668400" y="4579560"/>
              <a:ext cx="71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3668760" y="4219560"/>
              <a:ext cx="718920" cy="7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4" idx="2"/>
              <a:endCxn id="144" idx="6"/>
            </p:cNvCxnSpPr>
            <p:nvPr/>
          </p:nvCxnSpPr>
          <p:spPr>
            <a:xfrm>
              <a:off x="4733640" y="4592160"/>
              <a:ext cx="71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" name=""/>
            <p:cNvSpPr/>
            <p:nvPr/>
          </p:nvSpPr>
          <p:spPr>
            <a:xfrm>
              <a:off x="4734000" y="4232160"/>
              <a:ext cx="718920" cy="7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7160" y="3805200"/>
              <a:ext cx="25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Ma2MMb.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5720" y="3801960"/>
              <a:ext cx="2598480" cy="13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7" idx="0"/>
            <a:endCxn id="130" idx="2"/>
          </p:cNvCxnSpPr>
          <p:nvPr/>
        </p:nvCxnSpPr>
        <p:spPr>
          <a:xfrm flipH="1" flipV="1">
            <a:off x="4487040" y="2009160"/>
            <a:ext cx="2520" cy="353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9" name=""/>
          <p:cNvCxnSpPr>
            <a:stCxn id="157" idx="0"/>
            <a:endCxn id="147" idx="2"/>
          </p:cNvCxnSpPr>
          <p:nvPr/>
        </p:nvCxnSpPr>
        <p:spPr>
          <a:xfrm flipH="1" flipV="1">
            <a:off x="4488840" y="3576240"/>
            <a:ext cx="6840" cy="226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0" name=""/>
          <p:cNvCxnSpPr>
            <a:stCxn id="84" idx="3"/>
            <a:endCxn id="87" idx="1"/>
          </p:cNvCxnSpPr>
          <p:nvPr/>
        </p:nvCxnSpPr>
        <p:spPr>
          <a:xfrm>
            <a:off x="2755440" y="5630400"/>
            <a:ext cx="3545640" cy="252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lg" type="triangle" w="lg"/>
          </a:ln>
        </p:spPr>
      </p:cxnSp>
      <p:sp>
        <p:nvSpPr>
          <p:cNvPr id="161" name=""/>
          <p:cNvSpPr/>
          <p:nvPr/>
        </p:nvSpPr>
        <p:spPr>
          <a:xfrm>
            <a:off x="72000" y="448776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0200" y="44956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40560" y="18558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92000" y="18288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7840" y="7588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40E3-68A3-45C8-B49F-BAD1F056CBFC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perational context of AT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64000" y="1109520"/>
            <a:ext cx="5553720" cy="4529520"/>
            <a:chOff x="1764000" y="1109520"/>
            <a:chExt cx="5553720" cy="4529520"/>
          </a:xfrm>
        </p:grpSpPr>
        <p:sp>
          <p:nvSpPr>
            <p:cNvPr id="168" name=""/>
            <p:cNvSpPr/>
            <p:nvPr/>
          </p:nvSpPr>
          <p:spPr>
            <a:xfrm>
              <a:off x="3799080" y="1109520"/>
              <a:ext cx="134208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O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4000" y="2801880"/>
              <a:ext cx="144396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8280" y="2808360"/>
              <a:ext cx="14594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M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6200" y="4929120"/>
              <a:ext cx="96552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9840" y="4935600"/>
              <a:ext cx="9810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1" idx="0"/>
              <a:endCxn id="169" idx="2"/>
            </p:cNvCxnSpPr>
            <p:nvPr/>
          </p:nvCxnSpPr>
          <p:spPr>
            <a:xfrm flipV="1">
              <a:off x="2478960" y="3512520"/>
              <a:ext cx="9000" cy="1416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4" name=""/>
            <p:cNvCxnSpPr>
              <a:stCxn id="171" idx="3"/>
              <a:endCxn id="172" idx="1"/>
            </p:cNvCxnSpPr>
            <p:nvPr/>
          </p:nvCxnSpPr>
          <p:spPr>
            <a:xfrm>
              <a:off x="2941560" y="5284800"/>
              <a:ext cx="31773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0" idx="2"/>
            </p:cNvCxnSpPr>
            <p:nvPr/>
          </p:nvCxnSpPr>
          <p:spPr>
            <a:xfrm flipH="1" flipV="1">
              <a:off x="6587280" y="3519000"/>
              <a:ext cx="3960" cy="141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6" name=""/>
            <p:cNvCxnSpPr>
              <a:stCxn id="169" idx="0"/>
              <a:endCxn id="168" idx="2"/>
            </p:cNvCxnSpPr>
            <p:nvPr/>
          </p:nvCxnSpPr>
          <p:spPr>
            <a:xfrm flipV="1">
              <a:off x="2487240" y="1820160"/>
              <a:ext cx="1983240" cy="981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7" name=""/>
            <p:cNvCxnSpPr>
              <a:stCxn id="170" idx="0"/>
              <a:endCxn id="168" idx="2"/>
            </p:cNvCxnSpPr>
            <p:nvPr/>
          </p:nvCxnSpPr>
          <p:spPr>
            <a:xfrm flipH="1" flipV="1">
              <a:off x="4469400" y="1820160"/>
              <a:ext cx="2118600" cy="988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8" name=""/>
            <p:cNvSpPr/>
            <p:nvPr/>
          </p:nvSpPr>
          <p:spPr>
            <a:xfrm>
              <a:off x="3278880" y="4757760"/>
              <a:ext cx="2381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Ma2MMb.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18240" y="2798640"/>
              <a:ext cx="11120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AT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9" idx="0"/>
              <a:endCxn id="168" idx="2"/>
            </p:cNvCxnSpPr>
            <p:nvPr/>
          </p:nvCxnSpPr>
          <p:spPr>
            <a:xfrm flipH="1" flipV="1">
              <a:off x="4469760" y="1820520"/>
              <a:ext cx="5760" cy="97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1" name=""/>
            <p:cNvCxnSpPr>
              <a:stCxn id="178" idx="0"/>
              <a:endCxn id="179" idx="2"/>
            </p:cNvCxnSpPr>
            <p:nvPr/>
          </p:nvCxnSpPr>
          <p:spPr>
            <a:xfrm flipV="1">
              <a:off x="4473000" y="3509640"/>
              <a:ext cx="2520" cy="124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82" name=""/>
          <p:cNvSpPr/>
          <p:nvPr/>
        </p:nvSpPr>
        <p:spPr>
          <a:xfrm>
            <a:off x="-25200" y="214164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Ma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360" y="573552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a is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02480" y="5761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b is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arge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0400" y="216684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MB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8497-A6DD-4AB4-AE2F-31F07576DE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urce patter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patter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ecution ord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DA46-F956-4E72-BCB6-8F6D27982B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Frédéric Jouault</dc:creator>
  <dc:description/>
  <dc:language>en-US</dc:language>
  <cp:lastModifiedBy>Kurtev</cp:lastModifiedBy>
  <dcterms:modified xsi:type="dcterms:W3CDTF">2006-07-17T11:30:16Z</dcterms:modified>
  <cp:revision>352</cp:revision>
  <dc:subject>The ATLAS Transformation Language</dc:subject>
  <dc:title>Transforming models with AT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